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D99-761A-4BAB-8755-9581F1BF8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476-B0E6-4FA9-A515-8A64B41323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E21-FE45-4BE8-BC91-1C7A3E615C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D00-50F2-485F-B20C-9286F945F4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69E5-B3EE-48E3-9B59-52D2315645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9B9-629D-4980-ABF0-8C8A1EE04E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8CE6-78D3-413B-B2B2-FEFE111096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AA5-5AE2-4305-9599-E818EA51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686-51AC-4E5E-BA16-A005049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DB8-9E7C-45E3-B8A3-960BCE2F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E66-1366-4881-8018-65A3363F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15A4-F188-461F-B54D-6A48ADCF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8267-D063-46CC-AC7B-EB5B9A7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E7E-78AA-400E-ACB8-E73C037A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84F7-F358-4296-8C10-F070E0DD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E4CB-EAE1-4F7C-8E5A-48A465D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E5D-640B-4E32-9B06-1EC11EB7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7561-CBAA-4E49-9BD4-1FF85ED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EBD-E52E-4BDA-8C0A-DECAF67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58C5-25CC-4438-9F78-4BB0995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BE34-486B-4927-A265-C7CC4C6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D90C-1F67-4F32-8B88-FA95D7B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1073-0367-4B64-AC8A-23475FB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013-6E5E-4EC2-AC20-A4440218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0C1-3C19-4506-B973-29B5394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C9C-1B15-49AA-9838-319E14D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D83-E3F5-4592-A741-ABC5C39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038-0767-4708-8559-3FFF6BE6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BE-1B40-4F0D-A055-F760AAD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BC1-1534-430B-8405-AB7C824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F38-F5D0-4F66-B118-C52212B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7375-4CE0-4CC0-AA4B-0852216B5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94D-BE42-4B8E-912A-E467C08DD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nguage Regist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 of voices is an impression that’s left of your voice on others.  What kind of impression do you wan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rozen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change the wo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respect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Pledge of Allegiance, marriage vow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Formal Register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academic 1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or Speech 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Essay or Research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Consultative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academic 2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po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discussions, questions &amp; ans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Casual Registe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1 &amp; 2 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g, incomplete sentences, talking w/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imate Regi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between people in relationships (husbands/wives, moms/dads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nnet 17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f we get this f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stres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irlfri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r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ink or reddish-orange in 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brownish-grey 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maske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co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e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 a strong bad sm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th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n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dmit that something is true although it does not make much difference to your opi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o put your foot on or in something while you are wal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r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usual; un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lie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srepresent; to 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22:10:53Z</dcterms:created>
  <dc:creator>teacher</dc:creator>
  <dc:description/>
  <dc:language>en-US</dc:language>
  <cp:lastModifiedBy>nvasquez</cp:lastModifiedBy>
  <dcterms:modified xsi:type="dcterms:W3CDTF">2009-09-06T21:24:29Z</dcterms:modified>
  <cp:revision>11</cp:revision>
  <dc:subject/>
  <dc:title>Language Registers</dc:title>
</cp:coreProperties>
</file>